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951AF-F658-4979-9DA7-6C7ECB0F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1406-8D2B-41D3-8839-6F224728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158B-24F1-4625-B5AB-C2FB384A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D4718-1A6F-4CF4-98FC-A164A9B4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855E-BCF3-4FBA-9C96-EEA44CBA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A30D-1AB8-4BBA-B30A-A1CB39B5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B68E-CBF3-4689-B154-12B9542A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C3CC-8961-4BD1-AF5C-C05A076A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D867-D7C7-4FD6-8FCC-2A8FD364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8EDA-5D29-43DE-9394-B24B4FB6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F032-9679-474A-BDFD-7F5CCEF5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46631-7A4B-40F9-A00F-00F88BFF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6AAB-87F5-4242-90CE-DE52AD91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2BE9-1CC0-4D48-8D2F-A1EB4B7D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F9D4-1BDC-4EDD-A0CC-0A5B8E5D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F6F4-40BD-41CD-B866-E1CC3901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25E7-8A59-448E-9C6C-5AE65060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393F6-62A5-46D7-B7DA-5393521C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2432-CA87-4195-9246-892522A7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54E4A-6EE1-476F-BF5F-1E55181B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E560E-631F-467B-ADE7-47F52CEB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4CE17-28DC-45F4-8D3D-692E783A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9C02-C908-41D8-9CF4-050610B1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2FD18-D139-433E-8609-B109EF4D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DAB9-D5AA-4399-8D7A-5DC9D8B928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6ADB-5901-4A14-8B05-AC302B1D43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Внутр_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3"/>
          <p:cNvSpPr txBox="1"/>
          <p:nvPr/>
        </p:nvSpPr>
        <p:spPr>
          <a:xfrm>
            <a:off x="250920" y="1268280"/>
            <a:ext cx="871380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ложение 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читание 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исел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разными знаками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556000" y="40766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ff"/>
                </a:solidFill>
                <a:latin typeface="Times New Roman"/>
              </a:rPr>
              <a:t>Урок математики в 6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06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ff33"/>
                </a:solidFill>
                <a:latin typeface="Monotype Corsiva"/>
              </a:rPr>
              <a:t>	</a:t>
            </a:r>
            <a:r>
              <a:rPr b="0" lang="ru-RU" sz="3400" spc="-1" strike="noStrike">
                <a:solidFill>
                  <a:srgbClr val="ccff33"/>
                </a:solidFill>
                <a:latin typeface="Monotype Corsiva"/>
              </a:rPr>
              <a:t>	</a:t>
            </a:r>
            <a:r>
              <a:rPr b="0" lang="ru-RU" sz="3400" spc="-1" strike="noStrike">
                <a:solidFill>
                  <a:srgbClr val="ff3300"/>
                </a:solidFill>
                <a:latin typeface="Monotype Corsiva"/>
              </a:rPr>
              <a:t>Чтобы найти длину отрезка на координатной прямой по известным координатам его концов, надо</a:t>
            </a:r>
            <a:r>
              <a:rPr b="0" lang="ru-RU" sz="3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____________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Завершить утверждение, выбрав нужную фразу из спис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1.    сложить координаты его левого и правого конц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2.    вычесть координаты его концов в любом поряд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3.    вычесть из координаты правого конца координату левого конц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4.    вычислить координату середины отрезка, которая и будет равна длине отрез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5.    к координате правого конца прибавить число, противоположное  координате левого кон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45964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Monotype Corsiva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660033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ff3300"/>
                </a:solidFill>
                <a:latin typeface="Monotype Corsiva"/>
              </a:rPr>
              <a:t>Чтобы найти длину отрезка на координатной прямой по известным координатам его концов, надо</a:t>
            </a:r>
            <a:r>
              <a:rPr b="0" lang="ru-RU" sz="3000" spc="-1" strike="noStrike">
                <a:solidFill>
                  <a:srgbClr val="ffff00"/>
                </a:solidFill>
                <a:latin typeface="Monotype Corsiva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вычесть из координаты правого конца координату левого ко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Monotype Corsiva"/>
              </a:rPr>
              <a:t>                                     </a:t>
            </a:r>
            <a:r>
              <a:rPr b="0" lang="ru-RU" sz="2600" spc="-1" strike="noStrike">
                <a:solidFill>
                  <a:srgbClr val="0000ff"/>
                </a:solidFill>
                <a:latin typeface="Monotype Corsiva"/>
              </a:rPr>
              <a:t>А                                        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Monotype Corsiva"/>
              </a:rPr>
              <a:t>                                     </a:t>
            </a:r>
            <a:r>
              <a:rPr b="0" lang="ru-RU" sz="2200" spc="-1" strike="noStrike">
                <a:solidFill>
                  <a:srgbClr val="0000ff"/>
                </a:solidFill>
                <a:latin typeface="Monotype Corsiva"/>
              </a:rPr>
              <a:t>-</a:t>
            </a:r>
            <a:r>
              <a:rPr b="0" lang="ru-RU" sz="2600" spc="-1" strike="noStrike">
                <a:solidFill>
                  <a:srgbClr val="0000ff"/>
                </a:solidFill>
                <a:latin typeface="Monotype Corsiva"/>
              </a:rPr>
              <a:t>3                  0                       4                            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Monotype Corsiva"/>
              </a:rPr>
              <a:t>                 </a:t>
            </a:r>
            <a:r>
              <a:rPr b="0" lang="ru-RU" sz="3400" spc="-1" strike="noStrike">
                <a:solidFill>
                  <a:srgbClr val="0000ff"/>
                </a:solidFill>
                <a:latin typeface="Monotype Corsiva"/>
              </a:rPr>
              <a:t>АВ</a:t>
            </a:r>
            <a:r>
              <a:rPr b="0" lang="ru-RU" sz="3000" spc="-1" strike="noStrike">
                <a:solidFill>
                  <a:srgbClr val="0000ff"/>
                </a:solidFill>
                <a:latin typeface="Bookman Old Style"/>
              </a:rPr>
              <a:t> = 4 – ( -3) = 4 + 3 = 7 ( един. отр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Monotype Corsiva"/>
              </a:rPr>
              <a:t>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Monotype Corsiva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826920" y="3284640"/>
            <a:ext cx="73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413080" y="321300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726160" y="321300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3853080" y="314172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65516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Реши занимательную зада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9128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300" spc="-1" strike="noStrike">
                <a:solidFill>
                  <a:srgbClr val="009900"/>
                </a:solidFill>
                <a:latin typeface="Times New Roman"/>
              </a:rPr>
              <a:t>Учитель предложил Незнайке решить дома следующее задание: «Найти сумму всех целых чисел от - 499 до 501». Незнайка как обычно сел за работу, однако дело шло медленно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009900"/>
                </a:solidFill>
                <a:latin typeface="Times New Roman"/>
              </a:rPr>
              <a:t>Тогда на помощь ему пришли мама, папа, бабушка. Вычисляли пока от усталости не стали смыкаться глаз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009900"/>
                </a:solidFill>
                <a:latin typeface="Times New Roman"/>
              </a:rPr>
              <a:t>А вы, ребята, как бы решили такое задание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00"/>
                            </p:stCondLst>
                            <p:childTnLst>
                              <p:par>
                                <p:cTn id="4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600"/>
                            </p:stCondLst>
                            <p:childTnLst>
                              <p:par>
                                <p:cTn id="4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600"/>
                            </p:stCondLst>
                            <p:childTnLst>
                              <p:par>
                                <p:cTn id="4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99ff"/>
                </a:solidFill>
                <a:latin typeface="Arial"/>
              </a:rPr>
              <a:t>Найти значение выражения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66699"/>
                </a:solidFill>
                <a:latin typeface="Arial"/>
              </a:rPr>
              <a:t>-499+(-498)+(-497)+…+497+498+499+500+50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999ff"/>
                </a:solidFill>
                <a:latin typeface="Arial"/>
              </a:rPr>
              <a:t>Решение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66699"/>
                </a:solidFill>
                <a:latin typeface="Arial"/>
              </a:rPr>
              <a:t>-499+(-498)+(-497)+…+497+498+499+500+501=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66699"/>
                </a:solidFill>
                <a:latin typeface="Arial"/>
              </a:rPr>
              <a:t>=(-499+499)+(-498+498)+(-497+497)+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66699"/>
                </a:solidFill>
                <a:latin typeface="Arial"/>
              </a:rPr>
              <a:t>…</a:t>
            </a:r>
            <a:r>
              <a:rPr b="0" lang="ru-RU" sz="2900" spc="-1" strike="noStrike">
                <a:solidFill>
                  <a:srgbClr val="666699"/>
                </a:solidFill>
                <a:latin typeface="Arial"/>
              </a:rPr>
              <a:t>+(-1+1)+0+500+501=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66699"/>
                </a:solidFill>
                <a:latin typeface="Arial"/>
              </a:rPr>
              <a:t>=500+501=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66699"/>
                </a:solidFill>
                <a:latin typeface="Arial"/>
              </a:rPr>
              <a:t>=100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999ff"/>
                </a:solidFill>
                <a:latin typeface="Arial"/>
              </a:rPr>
              <a:t>Ответ:</a:t>
            </a:r>
            <a:r>
              <a:rPr b="1" lang="ru-RU" sz="23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666699"/>
                </a:solidFill>
                <a:latin typeface="Arial"/>
              </a:rPr>
              <a:t>сумма всех целых чисел от - 499 до 501 равна 100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2626920" y="476280"/>
            <a:ext cx="424836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Решени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1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1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1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Работа в тетрад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31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112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1124 (а ,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Найдите расстояние в единичных отрезках между точками А(-9) и В(-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С(5,6) и К(-3,8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Е(       ) и </a:t>
            </a: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1476360" y="4076640"/>
                <a:ext cx="4190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2627280" y="4005360"/>
                <a:ext cx="6494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checker dir="horz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95280" y="1413000"/>
          <a:ext cx="8497800" cy="4651200"/>
        </p:xfrm>
        <a:graphic>
          <a:graphicData uri="http://schemas.openxmlformats.org/drawingml/2006/table">
            <a:tbl>
              <a:tblPr/>
              <a:tblGrid>
                <a:gridCol w="4291200"/>
                <a:gridCol w="420660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66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0" lang="ru-RU" sz="2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,5-(-3,7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66ff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-25,7-4,6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66ff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-2,3-6,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66ff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,3-(-8,1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66ff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0,54+(-0,83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66ff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-0,28+(-0,18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66ff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-543+458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66ff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57+(-314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66ff"/>
                          </a:solidFill>
                          <a:latin typeface="Times New Roman"/>
                        </a:rPr>
                        <a:t>5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-0,48+(-0,76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</a:t>
                      </a:r>
                      <a:r>
                        <a:rPr b="0" lang="ru-RU" sz="2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-0,37+(-0,84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WordArt 65"/>
          <p:cNvSpPr txBox="1"/>
          <p:nvPr/>
        </p:nvSpPr>
        <p:spPr>
          <a:xfrm>
            <a:off x="2411280" y="2205000"/>
            <a:ext cx="93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1,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WordArt 67"/>
          <p:cNvSpPr txBox="1"/>
          <p:nvPr/>
        </p:nvSpPr>
        <p:spPr>
          <a:xfrm>
            <a:off x="2340000" y="2924280"/>
            <a:ext cx="7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-8,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WordArt 69"/>
          <p:cNvSpPr txBox="1"/>
          <p:nvPr/>
        </p:nvSpPr>
        <p:spPr>
          <a:xfrm>
            <a:off x="2843280" y="3789360"/>
            <a:ext cx="936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-0,2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WordArt 71"/>
          <p:cNvSpPr txBox="1"/>
          <p:nvPr/>
        </p:nvSpPr>
        <p:spPr>
          <a:xfrm>
            <a:off x="2411280" y="4508640"/>
            <a:ext cx="64800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-8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WordArt 73"/>
          <p:cNvSpPr txBox="1"/>
          <p:nvPr/>
        </p:nvSpPr>
        <p:spPr>
          <a:xfrm>
            <a:off x="2916360" y="5373720"/>
            <a:ext cx="107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-1,2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WordArt 75"/>
          <p:cNvSpPr txBox="1"/>
          <p:nvPr/>
        </p:nvSpPr>
        <p:spPr>
          <a:xfrm>
            <a:off x="6804000" y="2276640"/>
            <a:ext cx="100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30,3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WordArt 77"/>
          <p:cNvSpPr txBox="1"/>
          <p:nvPr/>
        </p:nvSpPr>
        <p:spPr>
          <a:xfrm>
            <a:off x="6804000" y="2997360"/>
            <a:ext cx="7192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4,4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WordArt 79"/>
          <p:cNvSpPr txBox="1"/>
          <p:nvPr/>
        </p:nvSpPr>
        <p:spPr>
          <a:xfrm>
            <a:off x="7380360" y="3789360"/>
            <a:ext cx="9349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0,46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81"/>
          <p:cNvSpPr txBox="1"/>
          <p:nvPr/>
        </p:nvSpPr>
        <p:spPr>
          <a:xfrm>
            <a:off x="7164360" y="4508640"/>
            <a:ext cx="57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57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WordArt 83"/>
          <p:cNvSpPr txBox="1"/>
          <p:nvPr/>
        </p:nvSpPr>
        <p:spPr>
          <a:xfrm>
            <a:off x="7308720" y="5300640"/>
            <a:ext cx="792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1,21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hecker dir="horz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968400" y="1558800"/>
            <a:ext cx="156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968400" y="1558800"/>
            <a:ext cx="156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968400" y="1558800"/>
            <a:ext cx="156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968400" y="1558800"/>
            <a:ext cx="156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39640" y="1125360"/>
          <a:ext cx="5042160" cy="4704120"/>
        </p:xfrm>
        <a:graphic>
          <a:graphicData uri="http://schemas.openxmlformats.org/drawingml/2006/table">
            <a:tbl>
              <a:tblPr/>
              <a:tblGrid>
                <a:gridCol w="698760"/>
                <a:gridCol w="2109600"/>
                <a:gridCol w="1008000"/>
                <a:gridCol w="1225800"/>
              </a:tblGrid>
              <a:tr h="79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9999ff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9999ff"/>
                          </a:solidFill>
                          <a:latin typeface="Arial"/>
                          <a:ea typeface="Times New Roman"/>
                        </a:rPr>
                        <a:t>п/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9999ff"/>
                          </a:solidFill>
                          <a:latin typeface="Arial"/>
                          <a:ea typeface="Times New Roman"/>
                        </a:rPr>
                        <a:t>Приме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9999ff"/>
                          </a:solidFill>
                          <a:latin typeface="Arial"/>
                          <a:ea typeface="Times New Roman"/>
                        </a:rPr>
                        <a:t>Отве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9999ff"/>
                          </a:solidFill>
                          <a:latin typeface="Arial"/>
                          <a:ea typeface="Times New Roman"/>
                        </a:rPr>
                        <a:t>Букв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 – 5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 + 3,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 – 8,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 + 7,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0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 + 8,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 – 3,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Object 58"/>
              <p:cNvSpPr txBox="1"/>
              <p:nvPr/>
            </p:nvSpPr>
            <p:spPr>
              <a:xfrm>
                <a:off x="1619280" y="3716280"/>
                <a:ext cx="1068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0"/>
              <p:cNvSpPr txBox="1"/>
              <p:nvPr/>
            </p:nvSpPr>
            <p:spPr>
              <a:xfrm>
                <a:off x="1763640" y="4365720"/>
                <a:ext cx="7095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адание «Отгадай слов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04000" y="2997360"/>
          <a:ext cx="2087640" cy="3630600"/>
        </p:xfrm>
        <a:graphic>
          <a:graphicData uri="http://schemas.openxmlformats.org/drawingml/2006/table">
            <a:tbl>
              <a:tblPr/>
              <a:tblGrid>
                <a:gridCol w="1050840"/>
                <a:gridCol w="1036800"/>
              </a:tblGrid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5/ 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0" name="Object 240"/>
              <p:cNvSpPr txBox="1"/>
              <p:nvPr/>
            </p:nvSpPr>
            <p:spPr>
              <a:xfrm>
                <a:off x="7236000" y="580536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checker dir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75"/>
                            </p:stCondLst>
                            <p:childTnLst>
                              <p:par>
                                <p:cTn id="59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75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75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075"/>
                            </p:stCondLst>
                            <p:childTnLst>
                              <p:par>
                                <p:cTn id="60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75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968400" y="1558800"/>
            <a:ext cx="156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968400" y="1558800"/>
            <a:ext cx="156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968400" y="1558800"/>
            <a:ext cx="156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968400" y="1558800"/>
            <a:ext cx="156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19280" y="1773360"/>
          <a:ext cx="6335640" cy="4703760"/>
        </p:xfrm>
        <a:graphic>
          <a:graphicData uri="http://schemas.openxmlformats.org/drawingml/2006/table">
            <a:tbl>
              <a:tblPr/>
              <a:tblGrid>
                <a:gridCol w="698400"/>
                <a:gridCol w="1879560"/>
                <a:gridCol w="1882800"/>
                <a:gridCol w="1874880"/>
              </a:tblGrid>
              <a:tr h="79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9999ff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9999ff"/>
                          </a:solidFill>
                          <a:latin typeface="Arial"/>
                          <a:ea typeface="Times New Roman"/>
                        </a:rPr>
                        <a:t>п/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9999ff"/>
                          </a:solidFill>
                          <a:latin typeface="Arial"/>
                          <a:ea typeface="Times New Roman"/>
                        </a:rPr>
                        <a:t>Приме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9999ff"/>
                          </a:solidFill>
                          <a:latin typeface="Arial"/>
                          <a:ea typeface="Times New Roman"/>
                        </a:rPr>
                        <a:t>Отве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9999ff"/>
                          </a:solidFill>
                          <a:latin typeface="Arial"/>
                          <a:ea typeface="Times New Roman"/>
                        </a:rPr>
                        <a:t>Букв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 – 5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 + 3,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 – 8,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 + 7,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 + 8,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 – 3,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6" name="Object 58"/>
              <p:cNvSpPr txBox="1"/>
              <p:nvPr/>
            </p:nvSpPr>
            <p:spPr>
              <a:xfrm>
                <a:off x="2843280" y="4365720"/>
                <a:ext cx="1068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59"/>
              <p:cNvSpPr txBox="1"/>
              <p:nvPr/>
            </p:nvSpPr>
            <p:spPr>
              <a:xfrm>
                <a:off x="4932360" y="4365720"/>
                <a:ext cx="5191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0"/>
              <p:cNvSpPr txBox="1"/>
              <p:nvPr/>
            </p:nvSpPr>
            <p:spPr>
              <a:xfrm>
                <a:off x="2987640" y="4941720"/>
                <a:ext cx="7095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61"/>
              <p:cNvSpPr txBox="1"/>
              <p:nvPr/>
            </p:nvSpPr>
            <p:spPr>
              <a:xfrm>
                <a:off x="5003640" y="5013360"/>
                <a:ext cx="2844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7058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дание «Отгадай сло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84360" y="476280"/>
            <a:ext cx="488952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Кросс-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63440" y="1197000"/>
            <a:ext cx="898056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1)</a:t>
            </a: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 Число, которому соответствует точка на координатной прямо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 Из двух чисел на координатной прямой больше то число, которое расположе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3)</a:t>
            </a: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 Число, не являющееся ни отрицательным, ни положительны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4)</a:t>
            </a: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 Расстояние от числа до начала отсчета на числовой прямо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5)</a:t>
            </a: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 Натуральные числа, им противоположные и нул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Резервны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1. № 12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2. № 1124 (в, 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3. № 1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3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700280"/>
          <a:ext cx="8165880" cy="4640040"/>
        </p:xfrm>
        <a:graphic>
          <a:graphicData uri="http://schemas.openxmlformats.org/drawingml/2006/table">
            <a:tbl>
              <a:tblPr/>
              <a:tblGrid>
                <a:gridCol w="2087640"/>
                <a:gridCol w="1224000"/>
                <a:gridCol w="1035000"/>
                <a:gridCol w="1353960"/>
                <a:gridCol w="1233720"/>
                <a:gridCol w="1231560"/>
              </a:tblGrid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9999ff"/>
                          </a:solidFill>
                          <a:latin typeface="Arial"/>
                        </a:rPr>
                        <a:t>Команд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9999ff"/>
                          </a:solidFill>
                          <a:latin typeface="Arial"/>
                        </a:rPr>
                        <a:t>Звезд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9999ff"/>
                          </a:solidFill>
                          <a:latin typeface="Arial"/>
                        </a:rPr>
                        <a:t>Оре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9999ff"/>
                          </a:solidFill>
                          <a:latin typeface="Arial"/>
                        </a:rPr>
                        <a:t>Тракто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9999ff"/>
                          </a:solidFill>
                          <a:latin typeface="Arial"/>
                        </a:rPr>
                        <a:t>Соко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9999ff"/>
                          </a:solidFill>
                          <a:latin typeface="Arial"/>
                        </a:rPr>
                        <a:t>Чайк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4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Число забитых мяче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4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Число пропущенных мяче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49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Разность забитых и пропущенных мяче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1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11" name="Text Box 40"/>
          <p:cNvSpPr/>
          <p:nvPr/>
        </p:nvSpPr>
        <p:spPr>
          <a:xfrm>
            <a:off x="4184640" y="112536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№ 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10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8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800"/>
                            </p:stCondLst>
                            <p:childTnLst>
                              <p:par>
                                <p:cTn id="2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Подготовиться к контрольной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-повторить прави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-решить № 10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                   № </a:t>
            </a: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1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36560" y="2141280"/>
            <a:ext cx="86392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Пусть в альбоме было х российских марок, тогда 0,3х марок бы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иностранных. Всего в альбоме было (х +0,3х) марок. Зная, что вс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было 1105 марок, составим и решим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х + 0,3х = 11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1,3х = 11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х = 1105 : 1,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х = 11050 : 1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х = 85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Итак, 850 марок было российских, тогда 850 </a:t>
            </a:r>
            <a:r>
              <a:rPr b="1" i="1" lang="ru-RU" sz="2000" spc="-1" strike="noStrike">
                <a:solidFill>
                  <a:srgbClr val="00007d"/>
                </a:solidFill>
                <a:latin typeface="Symbol"/>
                <a:ea typeface="Symbol"/>
              </a:rPr>
              <a:t></a:t>
            </a: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 0,3 = 255 (ма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было иностран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Провер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850 + 255 = 11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1105 = 1105 – вер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66"/>
                </a:solidFill>
                <a:latin typeface="Arial"/>
              </a:rPr>
              <a:t>Ответ: 255 марок; 850 марок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995640" y="5256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№</a:t>
            </a: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86040" y="107784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Verdana"/>
              </a:rPr>
              <a:t>Иностранные марки –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968400" y="159876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Verdana"/>
              </a:rPr>
              <a:t>Российские марки –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5726160" y="1224000"/>
            <a:ext cx="431640" cy="0"/>
          </a:xfrm>
          <a:prstGeom prst="line">
            <a:avLst/>
          </a:prstGeom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6152760" y="1219320"/>
            <a:ext cx="3240" cy="615960"/>
          </a:xfrm>
          <a:prstGeom prst="line">
            <a:avLst/>
          </a:prstGeom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4136760" y="1838160"/>
            <a:ext cx="2025720" cy="3240"/>
          </a:xfrm>
          <a:prstGeom prst="line">
            <a:avLst/>
          </a:prstGeom>
          <a:ln w="22320">
            <a:solidFill>
              <a:srgbClr val="ff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6450120" y="992160"/>
            <a:ext cx="247680" cy="1106640"/>
          </a:xfrm>
          <a:custGeom>
            <a:avLst/>
            <a:gdLst>
              <a:gd name="textAreaLeft" fmla="*/ 0 w 247680"/>
              <a:gd name="textAreaRight" fmla="*/ 89280 w 2476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6903360" y="12304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Verdana"/>
              </a:rPr>
              <a:t>1105 ма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231800" y="10620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Verdana"/>
              </a:rPr>
              <a:t>сост. 3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85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15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85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85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850"/>
                            </p:stCondLst>
                            <p:childTnLst>
                              <p:par>
                                <p:cTn id="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85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850"/>
                            </p:stCondLst>
                            <p:childTnLst>
                              <p:par>
                                <p:cTn id="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75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75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375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75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775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975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175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375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75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75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975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175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375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75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37447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90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Чтобы сложить два отрицательных числа, надо: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7d"/>
                </a:solidFill>
                <a:latin typeface="Times New Roman"/>
              </a:rPr>
              <a:t>.Найти модули этих чисел</a:t>
            </a:r>
            <a:r>
              <a:rPr b="0" i="1" lang="en-US" sz="2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7d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7d"/>
                </a:solidFill>
                <a:latin typeface="Times New Roman"/>
              </a:rPr>
              <a:t>2.Перед полученным результатом поставить знак «минус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84360" y="1557000"/>
            <a:ext cx="4032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ubRRectCallout"/>
          <p:cNvSpPr/>
          <p:nvPr/>
        </p:nvSpPr>
        <p:spPr>
          <a:xfrm rot="5400000">
            <a:off x="4968000" y="-280080"/>
            <a:ext cx="1224000" cy="3889440"/>
          </a:xfrm>
          <a:prstGeom prst="pie">
            <a:avLst/>
          </a:prstGeom>
          <a:solidFill>
            <a:srgbClr val="cc99ff">
              <a:alpha val="9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-7 + (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ubRRectCallout"/>
          <p:cNvSpPr/>
          <p:nvPr/>
        </p:nvSpPr>
        <p:spPr>
          <a:xfrm rot="5400000">
            <a:off x="5036040" y="1163880"/>
            <a:ext cx="1274760" cy="393084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-7I + I-9I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 7+9 =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ubRRectCallout"/>
          <p:cNvSpPr/>
          <p:nvPr/>
        </p:nvSpPr>
        <p:spPr>
          <a:xfrm rot="5400000">
            <a:off x="5070960" y="2713680"/>
            <a:ext cx="1274760" cy="38574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7 + (-9) = -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835280" y="33336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Повторяем прав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Подберите такое число, чтоб получилось верное равенств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Arial"/>
              </a:rPr>
              <a:t>а)    -6 +  … = -8;       </a:t>
            </a:r>
            <a:r>
              <a:rPr b="0" lang="en-US" sz="30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660033"/>
                </a:solidFill>
                <a:latin typeface="Arial"/>
              </a:rPr>
              <a:t>   б)   …   + (-3,8) = -4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Arial"/>
              </a:rPr>
              <a:t>в)   -6,5 +   …    = - 10;     г)    …   + (-9,1) = -10,1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Arial"/>
              </a:rPr>
              <a:t>д)   …   + (-3,9)= -13,9;  </a:t>
            </a:r>
            <a:r>
              <a:rPr b="0" lang="en-US" sz="3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660033"/>
                </a:solidFill>
                <a:latin typeface="Arial"/>
              </a:rPr>
              <a:t> е)  – 0,2 +   …    = - 0,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624560" y="258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3203640" y="549360"/>
            <a:ext cx="2952720" cy="70344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Задание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1478520" y="256536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4645440" y="256536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-0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1694160" y="357336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-3,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5005800" y="350028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470520" y="4508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086880" y="450864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-0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4"/>
          <p:cNvSpPr/>
          <p:nvPr/>
        </p:nvSpPr>
        <p:spPr>
          <a:xfrm>
            <a:off x="395280" y="1125360"/>
            <a:ext cx="460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Чтобы сложить два числа с разными знаками, на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Times New Roman"/>
              </a:rPr>
              <a:t>Найти модули эти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Times New Roman"/>
              </a:rPr>
              <a:t>Из большего модуля вычесть меньш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Times New Roman"/>
              </a:rPr>
              <a:t>Перед полученным результатом поставить знак числа с большим моду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5"/>
          <p:cNvSpPr/>
          <p:nvPr/>
        </p:nvSpPr>
        <p:spPr>
          <a:xfrm>
            <a:off x="4932360" y="2133720"/>
            <a:ext cx="30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ubRRectCallout"/>
          <p:cNvSpPr/>
          <p:nvPr/>
        </p:nvSpPr>
        <p:spPr>
          <a:xfrm rot="5400000">
            <a:off x="6048360" y="-135000"/>
            <a:ext cx="792000" cy="3456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8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ubRRectCallout"/>
          <p:cNvSpPr/>
          <p:nvPr/>
        </p:nvSpPr>
        <p:spPr>
          <a:xfrm rot="5400000">
            <a:off x="6119280" y="944640"/>
            <a:ext cx="720720" cy="33843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-8I=8   I3I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ubRRectCallout"/>
          <p:cNvSpPr/>
          <p:nvPr/>
        </p:nvSpPr>
        <p:spPr>
          <a:xfrm rot="5400000">
            <a:off x="6299640" y="3501000"/>
            <a:ext cx="863640" cy="3456000"/>
          </a:xfrm>
          <a:prstGeom prst="pie">
            <a:avLst/>
          </a:prstGeom>
          <a:solidFill>
            <a:srgbClr val="ffff99">
              <a:alpha val="9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.к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-8I &gt; I3I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                                        то -8 + 3 =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ubRRectCallout"/>
          <p:cNvSpPr/>
          <p:nvPr/>
        </p:nvSpPr>
        <p:spPr>
          <a:xfrm rot="5400000">
            <a:off x="6048360" y="2097000"/>
            <a:ext cx="936360" cy="34574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.к. 8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3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о 8 – 3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Повторяем правил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748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9966ff"/>
                </a:solidFill>
                <a:latin typeface="Arial"/>
              </a:rPr>
              <a:t>Выполните слож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а) -7 + 11=                б) -10 + 4=                в) </a:t>
            </a:r>
            <a:r>
              <a:rPr b="0" lang="en-US" sz="2600" spc="-1" strike="noStrike">
                <a:solidFill>
                  <a:srgbClr val="660033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6</a:t>
            </a:r>
            <a:r>
              <a:rPr b="0" lang="en-US" sz="2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8</a:t>
            </a:r>
            <a:r>
              <a:rPr b="0" lang="en-US" sz="2600" spc="-1" strike="noStrike">
                <a:solidFill>
                  <a:srgbClr val="660033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г)  7 + (-11) =            д)  10 + (- 4) =           е) -</a:t>
            </a:r>
            <a:r>
              <a:rPr b="0" lang="en-US" sz="2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8 </a:t>
            </a:r>
            <a:r>
              <a:rPr b="0" lang="en-US" sz="2600" spc="-1" strike="noStrike">
                <a:solidFill>
                  <a:srgbClr val="660033"/>
                </a:solidFill>
                <a:latin typeface="Arial"/>
              </a:rPr>
              <a:t>+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0033"/>
                </a:solidFill>
                <a:latin typeface="Arial"/>
              </a:rPr>
              <a:t>6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=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ж) -11 + 7 =               з)  - 4 + 10 =             и) -24 + 24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29272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059280" y="404640"/>
            <a:ext cx="2952720" cy="70344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33"/>
                </a:solidFill>
                <a:latin typeface="Arial"/>
              </a:rPr>
              <a:t>Задание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197440" y="270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294520" y="2708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486520" y="371628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79780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461440" y="3716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8606160" y="465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8245800" y="278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5653440" y="465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2341800" y="4653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410544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Чтобы из данного числа вычесть другое, над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7d"/>
                </a:solidFill>
                <a:latin typeface="Times New Roman"/>
              </a:rPr>
              <a:t>1. Найти числ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7d"/>
                </a:solidFill>
                <a:latin typeface="Times New Roman"/>
              </a:rPr>
              <a:t>      </a:t>
            </a:r>
            <a:r>
              <a:rPr b="0" i="1" lang="ru-RU" sz="2600" spc="-1" strike="noStrike">
                <a:solidFill>
                  <a:srgbClr val="00007d"/>
                </a:solidFill>
                <a:latin typeface="Times New Roman"/>
              </a:rPr>
              <a:t>противоположное вычитаемо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7d"/>
                </a:solidFill>
                <a:latin typeface="Times New Roman"/>
              </a:rPr>
              <a:t>2. К уменьшаемому прибавить это числ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5640" y="1557000"/>
            <a:ext cx="44704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ubRRectCallout"/>
          <p:cNvSpPr/>
          <p:nvPr/>
        </p:nvSpPr>
        <p:spPr>
          <a:xfrm rot="5400000">
            <a:off x="5518080" y="-541440"/>
            <a:ext cx="843120" cy="4608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5 –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ubRRectCallout"/>
          <p:cNvSpPr/>
          <p:nvPr/>
        </p:nvSpPr>
        <p:spPr>
          <a:xfrm rot="5400000">
            <a:off x="5652000" y="835560"/>
            <a:ext cx="1152360" cy="53290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40 – вычитаем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 40 – ему противополо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ubRRectCallout"/>
          <p:cNvSpPr/>
          <p:nvPr/>
        </p:nvSpPr>
        <p:spPr>
          <a:xfrm rot="5400000">
            <a:off x="5722920" y="2781000"/>
            <a:ext cx="866880" cy="4752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5 + ( - 40) =                  = - (40 – 25) =  -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Повторяем правил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9966ff"/>
                </a:solidFill>
                <a:latin typeface="Arial"/>
              </a:rPr>
              <a:t>Выполните вычитание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Arial"/>
              </a:rPr>
              <a:t>а) 1,8 -3,6 =           б) 4 -10 =          в)  </a:t>
            </a:r>
            <a:r>
              <a:rPr b="0" lang="en-US" sz="3000" spc="-1" strike="noStrike">
                <a:solidFill>
                  <a:srgbClr val="660033"/>
                </a:solidFill>
                <a:latin typeface="Arial"/>
              </a:rPr>
              <a:t>6 – 8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660033"/>
                </a:solidFill>
                <a:latin typeface="Arial"/>
              </a:rPr>
              <a:t>г)  </a:t>
            </a:r>
            <a:r>
              <a:rPr b="0" lang="en-US" sz="3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660033"/>
                </a:solidFill>
                <a:latin typeface="Arial"/>
              </a:rPr>
              <a:t>7 - 11 =            д) 10 - 4 =         е)2,1</a:t>
            </a:r>
            <a:r>
              <a:rPr b="0" lang="en-US" sz="3000" spc="-1" strike="noStrike">
                <a:solidFill>
                  <a:srgbClr val="660033"/>
                </a:solidFill>
                <a:latin typeface="Arial"/>
              </a:rPr>
              <a:t>8</a:t>
            </a:r>
            <a:r>
              <a:rPr b="0" lang="ru-RU" sz="3000" spc="-1" strike="noStrike">
                <a:solidFill>
                  <a:srgbClr val="660033"/>
                </a:solidFill>
                <a:latin typeface="Arial"/>
              </a:rPr>
              <a:t> – 4,18 =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660033"/>
                </a:solidFill>
                <a:latin typeface="Arial"/>
              </a:rPr>
              <a:t>ж)  24 - 24 =          з) 1 – 41 =         и) -24 + 2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529272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2916360" y="476280"/>
            <a:ext cx="2952720" cy="70344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33"/>
                </a:solidFill>
                <a:latin typeface="Arial"/>
              </a:rPr>
              <a:t>Задание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2125800" y="22766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1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5005440" y="2276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7669440" y="2276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2126160" y="33577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5150160" y="342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8644320" y="3429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341800" y="4508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150160" y="450864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8317080" y="4508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2:42:18Z</dcterms:created>
  <dc:creator>Reanimator Me User</dc:creator>
  <dc:description/>
  <dc:language>en-US</dc:language>
  <cp:lastModifiedBy>Admin</cp:lastModifiedBy>
  <dcterms:modified xsi:type="dcterms:W3CDTF">2010-09-23T17:55:19Z</dcterms:modified>
  <cp:revision>87</cp:revision>
  <dc:subject/>
  <dc:title>Открытый урок по математике</dc:title>
</cp:coreProperties>
</file>